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203A-0103-434B-AD92-1CB80EA0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8A2E-858E-4265-B372-AFA7E9C1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5C7B-D241-40AF-A2A2-B46A5375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F618-5B96-49BB-915B-47BDBDC4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BBA3-B45F-46F4-802C-33EFEE90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79F1-3102-4A16-81FE-318C4F74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E6B3-AC2D-49EC-B1FC-162287AF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589F-CF82-4FEC-B1FD-6A435617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FABC-5EF7-45CB-8441-DEED14ED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D4AF-5B35-4BC8-8A38-EBF1D9CE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DBCE-5CE8-4DA0-81B9-DA692235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4914-377F-4E02-B199-43E6D93F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F98B-2493-474D-A264-4AD625A1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3B06-B238-4E18-828D-8DB45A0C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D684-E5AB-41F4-A455-54AEAB8A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F3AD-EF25-42B8-8813-C01BCDEF7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F1E8-2001-4687-8ACF-4B2BB80E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63DF-13BE-44A0-AD33-ECEAA5F3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EA32-EF84-4ADC-B51D-ED1454EB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F66B-EAE9-4613-923D-C7B808E3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8F73-ED18-4310-A90D-599A7CF7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316E-2EE9-47D2-89F3-2F197D93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B64F-9067-4581-9811-993394F3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9B2A-C66B-4E2C-9F76-244D0705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2E72-5A59-4939-9A6E-7DAC06887B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0795-C6A4-4558-934F-FF368A08BC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ll There Was No Remedy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Divided Kingdom – Part 1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rter 6, Lesson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g.69-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 Kings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Judah and Isra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7772400" cy="5046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467480" y="3124080"/>
            <a:ext cx="1295640" cy="381240"/>
          </a:xfrm>
          <a:prstGeom prst="rightArrow">
            <a:avLst>
              <a:gd name="adj1" fmla="val 50000"/>
              <a:gd name="adj2" fmla="val 8496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9608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Judah and Isra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001000" cy="5195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3657600"/>
            <a:ext cx="6858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From The Last Stud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hu is anointed king of Isra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hu killed Joram, king of Isra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e also killed Ahaziah, Judah’s 6</a:t>
            </a:r>
            <a:r>
              <a:rPr b="1" lang="en-US" sz="3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ru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ext he killed Jezebel &amp; left her to be eaten by the do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In Today’s Less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hu kills all of Ahab’s rela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dare made by Jehu – 2 Kgs.10:1-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decapitation performed by the people -4-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destruction unleashed on the rest – 9-11,15-1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hu kills more relatives of Ahaziah 10:12-14  - princes of Juda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ehu kills the leaders of Jezreel – 9: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Athalia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rns her son, Ahaziah has been sl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izes the opportunity to be Judah’s new Qu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do this she kills all the royal family (her own grandchildren) except Joash, who was hidden from 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ile Jehu is ruler in Israel, she adds 6 evil years of rule over Juda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 small infant (Joash) is the only hope of keeping the promise to David al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Judah and Isra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thaliah – 6 evil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oash, the son of Ahaziah is spa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ehu – 28 evil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ehu destroys the Baal worshipers 2 Kgs 10:18-2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Jehovah’s Promise to Jehu – 4 more generations – 2 Kgs 10: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Jehu Squandered His Opportunity – 29-3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9T13:34:37Z</dcterms:created>
  <dc:creator>Terry W. Benton</dc:creator>
  <dc:description/>
  <dc:language>en-US</dc:language>
  <cp:lastModifiedBy>Frank D Vines</cp:lastModifiedBy>
  <dcterms:modified xsi:type="dcterms:W3CDTF">2007-03-07T04:48:51Z</dcterms:modified>
  <cp:revision>2</cp:revision>
  <dc:subject/>
  <dc:title>Till There Was No Remedy (Divided Kingdom – Part 1</dc:title>
</cp:coreProperties>
</file>